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46A-0216-4AF6-904A-2A413A15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21A-1B4C-4EE0-870A-3651A07D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AF4-AD34-466E-A7B4-0317964F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CCD-5EA6-43D0-8BCB-311C2401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3D0-32C7-4FBB-8B38-46B651BE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3DA-6C0B-4278-BD3A-D1646E1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0D3-9920-4521-8B91-0EE637C5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D2C-730D-41A7-94AE-F37E4A77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7D1-B6C3-42C1-8021-C02C5D8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6C3-23EB-451E-A459-B1F0BA3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E56-DBD1-4A89-AD32-ACBAD38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9DA-163F-484F-8CD6-7D7E771D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5306-8E91-4719-A85C-305A611BD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0" descr=""/>
          <p:cNvPicPr/>
          <p:nvPr/>
        </p:nvPicPr>
        <p:blipFill>
          <a:blip r:embed="rId1"/>
          <a:stretch/>
        </p:blipFill>
        <p:spPr>
          <a:xfrm>
            <a:off x="442800" y="2200320"/>
            <a:ext cx="8212320" cy="4205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627280" y="83664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闻两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29964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1184760" y="260280"/>
            <a:ext cx="27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2037960" y="1503720"/>
            <a:ext cx="5142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《人民解放军百万大军横渡长江》为什么按中、西、东的顺序叙述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分述三路军战况为什么又能一气呵成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路军首先发起渡江战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先说。西路军和中路军所遇敌情一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军抵抗甚为微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东线敌军抵抗较为顽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西路军接着中路军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叙述东路军的激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势由此涌向高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篇新闻的主体可以分为三个层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三个层次之间的衔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可以理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文一气呵成的行文脉络。叙述中路军和西路军的进军状况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从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路军是“二十日夜起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路军是“二十一日下午五时起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次分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衔接紧密。说了西路军的战况之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合起来有所议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汤恩伯认为南京江阴段防线是很巩固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弱点只存在于南京九江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料正是汤恩伯到芜湖的那一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面防线又被我军突破了。”话题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面”转向“东面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巧妙、很自然地转到了下一层。可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很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层次之间的衔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全文流转顺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气呵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对角圆角矩形 5"/>
          <p:cNvSpPr/>
          <p:nvPr/>
        </p:nvSpPr>
        <p:spPr>
          <a:xfrm>
            <a:off x="324000" y="1484280"/>
            <a:ext cx="8280360" cy="792360"/>
          </a:xfrm>
          <a:custGeom>
            <a:avLst/>
            <a:gdLst/>
            <a:ahLst/>
            <a:rect l="l" t="t" r="r" b="b"/>
            <a:pathLst>
              <a:path w="8280920" h="792088">
                <a:moveTo>
                  <a:pt x="132017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660070"/>
                </a:lnTo>
                <a:cubicBezTo>
                  <a:pt x="8280920" y="732981"/>
                  <a:pt x="8221814" y="792087"/>
                  <a:pt x="8148903" y="792087"/>
                </a:cubicBezTo>
                <a:lnTo>
                  <a:pt x="0" y="792088"/>
                </a:lnTo>
                <a:lnTo>
                  <a:pt x="0" y="792088"/>
                </a:lnTo>
                <a:lnTo>
                  <a:pt x="0" y="132017"/>
                </a:lnTo>
                <a:cubicBezTo>
                  <a:pt x="0" y="59106"/>
                  <a:pt x="59106" y="0"/>
                  <a:pt x="13201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标注 6"/>
          <p:cNvSpPr/>
          <p:nvPr/>
        </p:nvSpPr>
        <p:spPr>
          <a:xfrm>
            <a:off x="324000" y="2492280"/>
            <a:ext cx="8496000" cy="3529080"/>
          </a:xfrm>
          <a:prstGeom prst="wedgeRoundRectCallout">
            <a:avLst>
              <a:gd name="adj1" fmla="val 3763"/>
              <a:gd name="adj2" fmla="val -5394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7" dur="2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0" dur="2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2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9" dur="2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8"/>
          <p:cNvSpPr/>
          <p:nvPr/>
        </p:nvSpPr>
        <p:spPr>
          <a:xfrm>
            <a:off x="61128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7"/>
          <p:cNvSpPr/>
          <p:nvPr/>
        </p:nvSpPr>
        <p:spPr>
          <a:xfrm>
            <a:off x="539640" y="620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1843200" y="1049400"/>
            <a:ext cx="5531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在《中原我军解放南阳》中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在回顾一年多来南线人民解放军取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的伟大胜利时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列举出了哪些主要成绩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有三个方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恢复和建立了稳固的根据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立了七个军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扩大了老根据地。第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歼灭了大量的国民党正规部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了我党武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力量。第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纠正了“左”的策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取了正确的策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孤立了敌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巩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在《中原我军解放南阳》中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为什么不仅报道解放南阳的消息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而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概述一年多来南线人民解放军的战绩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这样写有什么作用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阳解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南线人民解放军一年多来取得伟大胜利的必然结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南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放之日正是总结一年多来伟大胜利的最好时机。另一方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一年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的战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说明蒋军弃城南逃的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标注 5"/>
          <p:cNvSpPr/>
          <p:nvPr/>
        </p:nvSpPr>
        <p:spPr>
          <a:xfrm>
            <a:off x="-252360" y="-306360"/>
            <a:ext cx="914400" cy="612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标注 6"/>
          <p:cNvSpPr/>
          <p:nvPr/>
        </p:nvSpPr>
        <p:spPr>
          <a:xfrm>
            <a:off x="395280" y="2060640"/>
            <a:ext cx="8280360" cy="1873080"/>
          </a:xfrm>
          <a:prstGeom prst="wedgeRoundRectCallout">
            <a:avLst>
              <a:gd name="adj1" fmla="val 3976"/>
              <a:gd name="adj2" fmla="val -5842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标注 9"/>
          <p:cNvSpPr/>
          <p:nvPr/>
        </p:nvSpPr>
        <p:spPr>
          <a:xfrm>
            <a:off x="395280" y="4869000"/>
            <a:ext cx="8353440" cy="1368360"/>
          </a:xfrm>
          <a:prstGeom prst="wedgeRoundRectCallout">
            <a:avLst>
              <a:gd name="adj1" fmla="val -5050"/>
              <a:gd name="adj2" fmla="val -5814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1300680" y="888840"/>
            <a:ext cx="65905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字的注音完全正确的一项是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荻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í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阻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è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溃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ku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要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督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ū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芜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Wú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歼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泄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i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ù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绥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uì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阌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Wé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684360" y="4797360"/>
            <a:ext cx="7991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的“窜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;C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的“歼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;D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的“绥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u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5"/>
          <p:cNvSpPr/>
          <p:nvPr/>
        </p:nvSpPr>
        <p:spPr>
          <a:xfrm>
            <a:off x="5940360" y="4005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6"/>
          <p:cNvSpPr/>
          <p:nvPr/>
        </p:nvSpPr>
        <p:spPr>
          <a:xfrm>
            <a:off x="3492360" y="4005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8"/>
          <p:cNvSpPr/>
          <p:nvPr/>
        </p:nvSpPr>
        <p:spPr>
          <a:xfrm>
            <a:off x="1116000" y="4005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9"/>
          <p:cNvSpPr/>
          <p:nvPr/>
        </p:nvSpPr>
        <p:spPr>
          <a:xfrm>
            <a:off x="5867280" y="3357720"/>
            <a:ext cx="14472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0"/>
          <p:cNvSpPr/>
          <p:nvPr/>
        </p:nvSpPr>
        <p:spPr>
          <a:xfrm>
            <a:off x="4067280" y="335772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1"/>
          <p:cNvSpPr/>
          <p:nvPr/>
        </p:nvSpPr>
        <p:spPr>
          <a:xfrm>
            <a:off x="1476360" y="3357720"/>
            <a:ext cx="14292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2"/>
          <p:cNvSpPr/>
          <p:nvPr/>
        </p:nvSpPr>
        <p:spPr>
          <a:xfrm>
            <a:off x="5940360" y="2708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3"/>
          <p:cNvSpPr/>
          <p:nvPr/>
        </p:nvSpPr>
        <p:spPr>
          <a:xfrm>
            <a:off x="3995640" y="270828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4"/>
          <p:cNvSpPr/>
          <p:nvPr/>
        </p:nvSpPr>
        <p:spPr>
          <a:xfrm>
            <a:off x="1187280" y="270828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5"/>
          <p:cNvSpPr/>
          <p:nvPr/>
        </p:nvSpPr>
        <p:spPr>
          <a:xfrm>
            <a:off x="5940360" y="4724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6"/>
          <p:cNvSpPr/>
          <p:nvPr/>
        </p:nvSpPr>
        <p:spPr>
          <a:xfrm>
            <a:off x="3348000" y="4653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7"/>
          <p:cNvSpPr/>
          <p:nvPr/>
        </p:nvSpPr>
        <p:spPr>
          <a:xfrm>
            <a:off x="1547640" y="4653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对角圆角矩形 18"/>
          <p:cNvSpPr/>
          <p:nvPr/>
        </p:nvSpPr>
        <p:spPr>
          <a:xfrm>
            <a:off x="324000" y="981000"/>
            <a:ext cx="8208720" cy="3816360"/>
          </a:xfrm>
          <a:custGeom>
            <a:avLst/>
            <a:gdLst/>
            <a:ahLst/>
            <a:rect l="l" t="t" r="r" b="b"/>
            <a:pathLst>
              <a:path w="8208912" h="3816424">
                <a:moveTo>
                  <a:pt x="636083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180340"/>
                </a:lnTo>
                <a:cubicBezTo>
                  <a:pt x="8208912" y="3531639"/>
                  <a:pt x="7924128" y="3816423"/>
                  <a:pt x="7572829" y="3816423"/>
                </a:cubicBezTo>
                <a:lnTo>
                  <a:pt x="0" y="3816424"/>
                </a:lnTo>
                <a:lnTo>
                  <a:pt x="0" y="3816424"/>
                </a:lnTo>
                <a:lnTo>
                  <a:pt x="0" y="636083"/>
                </a:lnTo>
                <a:cubicBezTo>
                  <a:pt x="0" y="284784"/>
                  <a:pt x="284784" y="0"/>
                  <a:pt x="63608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对角圆角矩形 19"/>
          <p:cNvSpPr/>
          <p:nvPr/>
        </p:nvSpPr>
        <p:spPr>
          <a:xfrm>
            <a:off x="250920" y="4869000"/>
            <a:ext cx="8353440" cy="1296720"/>
          </a:xfrm>
          <a:custGeom>
            <a:avLst/>
            <a:gdLst/>
            <a:ahLst/>
            <a:rect l="l" t="t" r="r" b="b"/>
            <a:pathLst>
              <a:path w="8352928" h="1296144">
                <a:moveTo>
                  <a:pt x="216028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1080115"/>
                </a:lnTo>
                <a:cubicBezTo>
                  <a:pt x="8352928" y="1199424"/>
                  <a:pt x="8256209" y="1296143"/>
                  <a:pt x="8136900" y="1296143"/>
                </a:cubicBezTo>
                <a:lnTo>
                  <a:pt x="0" y="1296144"/>
                </a:lnTo>
                <a:lnTo>
                  <a:pt x="0" y="1296144"/>
                </a:lnTo>
                <a:lnTo>
                  <a:pt x="0" y="216028"/>
                </a:lnTo>
                <a:cubicBezTo>
                  <a:pt x="0" y="96719"/>
                  <a:pt x="96719" y="0"/>
                  <a:pt x="21602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0"/>
          <p:cNvSpPr/>
          <p:nvPr/>
        </p:nvSpPr>
        <p:spPr>
          <a:xfrm>
            <a:off x="7684560" y="1628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2078640" y="1246320"/>
            <a:ext cx="4893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词语中没有错别字的一项是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不可档　　督战　　封锁　　业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隅顽抗　　拒绝　　协定　　功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山倒海　　策略　　占据　　管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横度长江　　豫北　　惨败　　企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755640" y="458136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档”应为“当”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B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功”应为“攻”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D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度”应为“渡”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对角圆角矩形 4"/>
          <p:cNvSpPr/>
          <p:nvPr/>
        </p:nvSpPr>
        <p:spPr>
          <a:xfrm>
            <a:off x="468360" y="1125360"/>
            <a:ext cx="8207280" cy="3383280"/>
          </a:xfrm>
          <a:custGeom>
            <a:avLst/>
            <a:gdLst/>
            <a:ahLst/>
            <a:rect l="l" t="t" r="r" b="b"/>
            <a:pathLst>
              <a:path w="8208912" h="3384376">
                <a:moveTo>
                  <a:pt x="564073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2820302"/>
                </a:lnTo>
                <a:cubicBezTo>
                  <a:pt x="8208912" y="3131831"/>
                  <a:pt x="7956368" y="3384375"/>
                  <a:pt x="7644839" y="3384375"/>
                </a:cubicBezTo>
                <a:lnTo>
                  <a:pt x="0" y="3384376"/>
                </a:lnTo>
                <a:lnTo>
                  <a:pt x="0" y="3384376"/>
                </a:lnTo>
                <a:lnTo>
                  <a:pt x="0" y="564073"/>
                </a:lnTo>
                <a:cubicBezTo>
                  <a:pt x="0" y="252544"/>
                  <a:pt x="252544" y="0"/>
                  <a:pt x="56407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对角圆角矩形 5"/>
          <p:cNvSpPr/>
          <p:nvPr/>
        </p:nvSpPr>
        <p:spPr>
          <a:xfrm>
            <a:off x="468360" y="4581360"/>
            <a:ext cx="8136000" cy="1440000"/>
          </a:xfrm>
          <a:custGeom>
            <a:avLst/>
            <a:gdLst/>
            <a:ahLst/>
            <a:rect l="l" t="t" r="r" b="b"/>
            <a:pathLst>
              <a:path w="8136904" h="1440160">
                <a:moveTo>
                  <a:pt x="240031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1200128"/>
                </a:lnTo>
                <a:cubicBezTo>
                  <a:pt x="8136904" y="1332693"/>
                  <a:pt x="8029438" y="1440159"/>
                  <a:pt x="7896873" y="1440159"/>
                </a:cubicBezTo>
                <a:lnTo>
                  <a:pt x="0" y="1440160"/>
                </a:lnTo>
                <a:lnTo>
                  <a:pt x="0" y="1440160"/>
                </a:lnTo>
                <a:lnTo>
                  <a:pt x="0" y="240031"/>
                </a:lnTo>
                <a:cubicBezTo>
                  <a:pt x="0" y="107466"/>
                  <a:pt x="107466" y="0"/>
                  <a:pt x="24003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246080" y="1413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1833120" y="858960"/>
            <a:ext cx="563004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语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释下列句子中的加点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种情况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方面由于人民解放军英勇善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不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一方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和国民党反动派拒绝签订和平协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大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过去一年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蒋介石极重视南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于此设立所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绥靖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王凌云为司令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图阻遏人民解放军向南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2421720" y="364500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锋利无比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可抵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3127320" y="544500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安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形标注 6"/>
          <p:cNvSpPr/>
          <p:nvPr/>
        </p:nvSpPr>
        <p:spPr>
          <a:xfrm>
            <a:off x="1187280" y="3573360"/>
            <a:ext cx="3961080" cy="647640"/>
          </a:xfrm>
          <a:prstGeom prst="wedgeEllipseCallout">
            <a:avLst>
              <a:gd name="adj1" fmla="val 74819"/>
              <a:gd name="adj2" fmla="val -1335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形标注 8"/>
          <p:cNvSpPr/>
          <p:nvPr/>
        </p:nvSpPr>
        <p:spPr>
          <a:xfrm>
            <a:off x="2556000" y="5445000"/>
            <a:ext cx="2232000" cy="576360"/>
          </a:xfrm>
          <a:prstGeom prst="wedgeEllipseCallout">
            <a:avLst>
              <a:gd name="adj1" fmla="val -88861"/>
              <a:gd name="adj2" fmla="val -467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9"/>
          <p:cNvSpPr/>
          <p:nvPr/>
        </p:nvSpPr>
        <p:spPr>
          <a:xfrm>
            <a:off x="539640" y="2781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667640" y="213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8388360" y="213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2"/>
          <p:cNvSpPr/>
          <p:nvPr/>
        </p:nvSpPr>
        <p:spPr>
          <a:xfrm>
            <a:off x="8028000" y="213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3"/>
          <p:cNvSpPr/>
          <p:nvPr/>
        </p:nvSpPr>
        <p:spPr>
          <a:xfrm>
            <a:off x="900000" y="5373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4"/>
          <p:cNvSpPr/>
          <p:nvPr/>
        </p:nvSpPr>
        <p:spPr>
          <a:xfrm>
            <a:off x="611280" y="537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073520" y="1286640"/>
            <a:ext cx="748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学常识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的结构通常包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必不可少的三部分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新闻写作必须注意记叙的六要素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表达方式上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闻一般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当作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可穿插适当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"/>
          <p:cNvSpPr/>
          <p:nvPr/>
        </p:nvSpPr>
        <p:spPr>
          <a:xfrm>
            <a:off x="2777040" y="170028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消息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716796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324000" y="21337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导语　         主体　      背景　        结语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5184000" y="2565360"/>
            <a:ext cx="24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　       导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68760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9"/>
          <p:cNvSpPr/>
          <p:nvPr/>
        </p:nvSpPr>
        <p:spPr>
          <a:xfrm>
            <a:off x="7740720" y="2997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时间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0"/>
          <p:cNvSpPr/>
          <p:nvPr/>
        </p:nvSpPr>
        <p:spPr>
          <a:xfrm>
            <a:off x="395280" y="33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地点　       人物　      事件　    发生的原因　    经过    结果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1"/>
          <p:cNvSpPr/>
          <p:nvPr/>
        </p:nvSpPr>
        <p:spPr>
          <a:xfrm>
            <a:off x="250920" y="429264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记叙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描写　                               议论　     抒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对角圆角矩形 12"/>
          <p:cNvSpPr/>
          <p:nvPr/>
        </p:nvSpPr>
        <p:spPr>
          <a:xfrm>
            <a:off x="179280" y="1268280"/>
            <a:ext cx="8785440" cy="4608720"/>
          </a:xfrm>
          <a:custGeom>
            <a:avLst/>
            <a:gdLst/>
            <a:ahLst/>
            <a:rect l="l" t="t" r="r" b="b"/>
            <a:pathLst>
              <a:path w="8784976" h="4608512">
                <a:moveTo>
                  <a:pt x="768100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3840411"/>
                </a:lnTo>
                <a:cubicBezTo>
                  <a:pt x="8784976" y="4264621"/>
                  <a:pt x="8441086" y="4608511"/>
                  <a:pt x="8016876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"/>
          <p:cNvSpPr/>
          <p:nvPr/>
        </p:nvSpPr>
        <p:spPr>
          <a:xfrm>
            <a:off x="2096640" y="1141200"/>
            <a:ext cx="5072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关于本文的说法正确的一项是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解放军百万大军横渡长江”中说的“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军”表现了我军人数众多、力量强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非实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人民解放军百万大军横渡长江》的导语部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闻的第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解放军中、西、东三路大军于同日同时发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渡江战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阳解放发生在渡江战役之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611280" y="486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百万大军”是实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B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导语是这篇新闻的前两句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C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同日同时”是错误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对角圆角矩形 4"/>
          <p:cNvSpPr/>
          <p:nvPr/>
        </p:nvSpPr>
        <p:spPr>
          <a:xfrm>
            <a:off x="250920" y="1125360"/>
            <a:ext cx="8424720" cy="3527640"/>
          </a:xfrm>
          <a:custGeom>
            <a:avLst/>
            <a:gdLst/>
            <a:ahLst/>
            <a:rect l="l" t="t" r="r" b="b"/>
            <a:pathLst>
              <a:path w="8424936" h="3528392">
                <a:moveTo>
                  <a:pt x="588077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2940314"/>
                </a:lnTo>
                <a:cubicBezTo>
                  <a:pt x="8424936" y="3265100"/>
                  <a:pt x="8161645" y="3528391"/>
                  <a:pt x="7836859" y="3528391"/>
                </a:cubicBezTo>
                <a:lnTo>
                  <a:pt x="0" y="3528392"/>
                </a:lnTo>
                <a:lnTo>
                  <a:pt x="0" y="3528392"/>
                </a:lnTo>
                <a:lnTo>
                  <a:pt x="0" y="588077"/>
                </a:lnTo>
                <a:cubicBezTo>
                  <a:pt x="0" y="263291"/>
                  <a:pt x="263291" y="0"/>
                  <a:pt x="58807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对角圆角矩形 5"/>
          <p:cNvSpPr/>
          <p:nvPr/>
        </p:nvSpPr>
        <p:spPr>
          <a:xfrm>
            <a:off x="324000" y="4869000"/>
            <a:ext cx="8424720" cy="1152360"/>
          </a:xfrm>
          <a:custGeom>
            <a:avLst/>
            <a:gdLst/>
            <a:ahLst/>
            <a:rect l="l" t="t" r="r" b="b"/>
            <a:pathLst>
              <a:path w="8424936" h="1152128">
                <a:moveTo>
                  <a:pt x="192025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960102"/>
                </a:lnTo>
                <a:cubicBezTo>
                  <a:pt x="8424936" y="1066154"/>
                  <a:pt x="8338963" y="1152127"/>
                  <a:pt x="8232911" y="1152127"/>
                </a:cubicBezTo>
                <a:lnTo>
                  <a:pt x="0" y="1152128"/>
                </a:lnTo>
                <a:lnTo>
                  <a:pt x="0" y="1152128"/>
                </a:lnTo>
                <a:lnTo>
                  <a:pt x="0" y="192025"/>
                </a:lnTo>
                <a:cubicBezTo>
                  <a:pt x="0" y="85973"/>
                  <a:pt x="85973" y="0"/>
                  <a:pt x="19202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7250040" y="112536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6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1534320" y="97056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河南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是几则新闻的标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认真阅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究的结果写在下面方格中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超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4360" y="2060640"/>
          <a:ext cx="7704000" cy="936720"/>
        </p:xfrm>
        <a:graphic>
          <a:graphicData uri="http://schemas.openxmlformats.org/drawingml/2006/table">
            <a:tbl>
              <a:tblPr/>
              <a:tblGrid>
                <a:gridCol w="769680"/>
                <a:gridCol w="771120"/>
                <a:gridCol w="770040"/>
                <a:gridCol w="769680"/>
                <a:gridCol w="734760"/>
                <a:gridCol w="806400"/>
                <a:gridCol w="771120"/>
                <a:gridCol w="770040"/>
                <a:gridCol w="769680"/>
                <a:gridCol w="771480"/>
              </a:tblGrid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2"/>
          <p:cNvSpPr/>
          <p:nvPr/>
        </p:nvSpPr>
        <p:spPr>
          <a:xfrm>
            <a:off x="1644840" y="3154680"/>
            <a:ext cx="593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部将重点发展校园足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01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《新京报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青少年校园足球工作电视电话会议在京召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01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《人民日报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足球进校园有了第一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周一节足球课成现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01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《中国青年报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足球课本将试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足球进校园将有本可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01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《人民日报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对角圆角矩形 5"/>
          <p:cNvSpPr/>
          <p:nvPr/>
        </p:nvSpPr>
        <p:spPr>
          <a:xfrm>
            <a:off x="179280" y="981000"/>
            <a:ext cx="8640720" cy="5112000"/>
          </a:xfrm>
          <a:custGeom>
            <a:avLst/>
            <a:gdLst/>
            <a:ahLst/>
            <a:rect l="l" t="t" r="r" b="b"/>
            <a:pathLst>
              <a:path w="8640960" h="5112568">
                <a:moveTo>
                  <a:pt x="852111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4260456"/>
                </a:lnTo>
                <a:cubicBezTo>
                  <a:pt x="8640960" y="4731064"/>
                  <a:pt x="8259457" y="5112567"/>
                  <a:pt x="7788849" y="5112567"/>
                </a:cubicBezTo>
                <a:lnTo>
                  <a:pt x="0" y="5112568"/>
                </a:lnTo>
                <a:lnTo>
                  <a:pt x="0" y="5112568"/>
                </a:lnTo>
                <a:lnTo>
                  <a:pt x="0" y="852111"/>
                </a:lnTo>
                <a:cubicBezTo>
                  <a:pt x="0" y="381503"/>
                  <a:pt x="381503" y="0"/>
                  <a:pt x="8521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1959480" y="1218960"/>
            <a:ext cx="5416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案：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校园足球工作受到重视并逐步推进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通读新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材料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明确四则新闻都是围绕“校园足球”这一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报道的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①条报道教育部将重点发展校园足球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条报道全国青少年校园足球工作电视电话会议召开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条报道一周一节足球课成现实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④条报道足球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校园有本可依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总结起来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可以看出校园足球从教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到校园都重视并开课了。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对角圆角矩形 3"/>
          <p:cNvSpPr/>
          <p:nvPr/>
        </p:nvSpPr>
        <p:spPr>
          <a:xfrm>
            <a:off x="395280" y="1125360"/>
            <a:ext cx="8424720" cy="4824720"/>
          </a:xfrm>
          <a:custGeom>
            <a:avLst/>
            <a:gdLst/>
            <a:ahLst/>
            <a:rect l="l" t="t" r="r" b="b"/>
            <a:pathLst>
              <a:path w="8424936" h="4824536">
                <a:moveTo>
                  <a:pt x="804105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4020430"/>
                </a:lnTo>
                <a:cubicBezTo>
                  <a:pt x="8424936" y="4464525"/>
                  <a:pt x="8064926" y="4824535"/>
                  <a:pt x="7620831" y="4824535"/>
                </a:cubicBezTo>
                <a:lnTo>
                  <a:pt x="0" y="4824536"/>
                </a:lnTo>
                <a:lnTo>
                  <a:pt x="0" y="4824536"/>
                </a:lnTo>
                <a:lnTo>
                  <a:pt x="0" y="804105"/>
                </a:lnTo>
                <a:cubicBezTo>
                  <a:pt x="0" y="360010"/>
                  <a:pt x="360010" y="0"/>
                  <a:pt x="80410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1394280" y="1125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159000" y="1563120"/>
            <a:ext cx="345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扔掉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仅是文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吕玥　通讯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鹏程　于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嘉兴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车窗抛物屡见不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3.jpg" descr="id:2147499675;FounderCES"/>
          <p:cNvPicPr/>
          <p:nvPr/>
        </p:nvPicPr>
        <p:blipFill>
          <a:blip r:embed="rId2"/>
          <a:stretch/>
        </p:blipFill>
        <p:spPr>
          <a:xfrm>
            <a:off x="1042920" y="3284640"/>
            <a:ext cx="7416720" cy="2592360"/>
          </a:xfrm>
          <a:prstGeom prst="rect">
            <a:avLst/>
          </a:prstGeom>
          <a:ln w="0">
            <a:noFill/>
          </a:ln>
        </p:spPr>
      </p:pic>
      <p:sp>
        <p:nvSpPr>
          <p:cNvPr id="222" name="对角圆角矩形 5"/>
          <p:cNvSpPr/>
          <p:nvPr/>
        </p:nvSpPr>
        <p:spPr>
          <a:xfrm>
            <a:off x="611280" y="1557360"/>
            <a:ext cx="8281800" cy="4535640"/>
          </a:xfrm>
          <a:custGeom>
            <a:avLst/>
            <a:gdLst/>
            <a:ahLst/>
            <a:rect l="l" t="t" r="r" b="b"/>
            <a:pathLst>
              <a:path w="8280920" h="4536504">
                <a:moveTo>
                  <a:pt x="756099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780404"/>
                </a:lnTo>
                <a:cubicBezTo>
                  <a:pt x="8280920" y="4197986"/>
                  <a:pt x="7942403" y="4536503"/>
                  <a:pt x="7524821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975960" y="1573200"/>
            <a:ext cx="7993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字音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荻港（     ）     歼灭　          溃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阻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绥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阌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皖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不可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管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濂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鄂豫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芜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襄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547640" y="220500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í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858480" y="227664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3995640" y="2276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5940360" y="227664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8028000" y="227664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1266480" y="292428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uíjì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3868560" y="29242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799600" y="292428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7903800" y="2924280"/>
            <a:ext cx="9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W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2124000" y="3645000"/>
            <a:ext cx="11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4571280" y="3645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6295680" y="364500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1835280" y="4221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è 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4234680" y="4221000"/>
            <a:ext cx="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W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6725520" y="42210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4"/>
          <p:cNvSpPr/>
          <p:nvPr/>
        </p:nvSpPr>
        <p:spPr>
          <a:xfrm>
            <a:off x="684360" y="2781360"/>
            <a:ext cx="1425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5"/>
          <p:cNvSpPr/>
          <p:nvPr/>
        </p:nvSpPr>
        <p:spPr>
          <a:xfrm>
            <a:off x="3132000" y="2781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8"/>
          <p:cNvSpPr/>
          <p:nvPr/>
        </p:nvSpPr>
        <p:spPr>
          <a:xfrm>
            <a:off x="7596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9"/>
          <p:cNvSpPr/>
          <p:nvPr/>
        </p:nvSpPr>
        <p:spPr>
          <a:xfrm>
            <a:off x="6012000" y="4724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0"/>
          <p:cNvSpPr/>
          <p:nvPr/>
        </p:nvSpPr>
        <p:spPr>
          <a:xfrm>
            <a:off x="3564000" y="4724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1"/>
          <p:cNvSpPr/>
          <p:nvPr/>
        </p:nvSpPr>
        <p:spPr>
          <a:xfrm>
            <a:off x="5867280" y="407664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2"/>
          <p:cNvSpPr/>
          <p:nvPr/>
        </p:nvSpPr>
        <p:spPr>
          <a:xfrm>
            <a:off x="4140360" y="4076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3"/>
          <p:cNvSpPr/>
          <p:nvPr/>
        </p:nvSpPr>
        <p:spPr>
          <a:xfrm>
            <a:off x="104292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4"/>
          <p:cNvSpPr/>
          <p:nvPr/>
        </p:nvSpPr>
        <p:spPr>
          <a:xfrm>
            <a:off x="61128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5"/>
          <p:cNvSpPr/>
          <p:nvPr/>
        </p:nvSpPr>
        <p:spPr>
          <a:xfrm>
            <a:off x="7308720" y="3429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6"/>
          <p:cNvSpPr/>
          <p:nvPr/>
        </p:nvSpPr>
        <p:spPr>
          <a:xfrm>
            <a:off x="320364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7"/>
          <p:cNvSpPr/>
          <p:nvPr/>
        </p:nvSpPr>
        <p:spPr>
          <a:xfrm>
            <a:off x="5364000" y="3429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8"/>
          <p:cNvSpPr/>
          <p:nvPr/>
        </p:nvSpPr>
        <p:spPr>
          <a:xfrm>
            <a:off x="611280" y="4724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9"/>
          <p:cNvSpPr/>
          <p:nvPr/>
        </p:nvSpPr>
        <p:spPr>
          <a:xfrm>
            <a:off x="1042920" y="4724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对角圆角矩形 40"/>
          <p:cNvSpPr/>
          <p:nvPr/>
        </p:nvSpPr>
        <p:spPr>
          <a:xfrm>
            <a:off x="179280" y="1557360"/>
            <a:ext cx="8785440" cy="4175280"/>
          </a:xfrm>
          <a:custGeom>
            <a:avLst/>
            <a:gdLst/>
            <a:ahLst/>
            <a:rect l="l" t="t" r="r" b="b"/>
            <a:pathLst>
              <a:path w="8784976" h="4176464">
                <a:moveTo>
                  <a:pt x="696091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3480372"/>
                </a:lnTo>
                <a:cubicBezTo>
                  <a:pt x="8784976" y="3864812"/>
                  <a:pt x="8473325" y="4176463"/>
                  <a:pt x="8088885" y="4176463"/>
                </a:cubicBezTo>
                <a:lnTo>
                  <a:pt x="0" y="4176464"/>
                </a:lnTo>
                <a:lnTo>
                  <a:pt x="0" y="4176464"/>
                </a:lnTo>
                <a:lnTo>
                  <a:pt x="0" y="696091"/>
                </a:lnTo>
                <a:cubicBezTo>
                  <a:pt x="0" y="311651"/>
                  <a:pt x="311651" y="0"/>
                  <a:pt x="69609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Administrator\Desktop\花\87123.gif"/>
          <p:cNvPicPr/>
          <p:nvPr/>
        </p:nvPicPr>
        <p:blipFill>
          <a:blip r:embed="rId2"/>
          <a:stretch/>
        </p:blipFill>
        <p:spPr>
          <a:xfrm>
            <a:off x="8244000" y="3357720"/>
            <a:ext cx="763560" cy="2430360"/>
          </a:xfrm>
          <a:prstGeom prst="rect">
            <a:avLst/>
          </a:prstGeom>
          <a:ln w="0">
            <a:noFill/>
          </a:ln>
        </p:spPr>
      </p:pic>
      <p:sp>
        <p:nvSpPr>
          <p:cNvPr id="81" name="椭圆 41"/>
          <p:cNvSpPr/>
          <p:nvPr/>
        </p:nvSpPr>
        <p:spPr>
          <a:xfrm>
            <a:off x="1763640" y="4076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1764000" y="1186920"/>
            <a:ext cx="588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窗抛物”是马路上常见的一种交通陋习。记者从杭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速交警二大队获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安徽黄山做生意的张先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驾驶奔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3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轿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途经杭徽高速到杭州旅游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前方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驶的一辆昌河面包车上抛出的矿泉水瓶砸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顷刻间前挡风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璃碎成蜘蛛网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幸车上人员没有受伤。据了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块挡风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璃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的报价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一个小小的矿泉水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这么轻轻一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竟然造成这么严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损失。也许在面包车司机看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最多就是丢了点文明。然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窗抛物”抛掉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何止是文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对角圆角矩形 3"/>
          <p:cNvSpPr/>
          <p:nvPr/>
        </p:nvSpPr>
        <p:spPr>
          <a:xfrm>
            <a:off x="179280" y="1197000"/>
            <a:ext cx="8640720" cy="5040360"/>
          </a:xfrm>
          <a:custGeom>
            <a:avLst/>
            <a:gdLst/>
            <a:ahLst/>
            <a:rect l="l" t="t" r="r" b="b"/>
            <a:pathLst>
              <a:path w="8640960" h="5040560">
                <a:moveTo>
                  <a:pt x="840110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4200449"/>
                </a:lnTo>
                <a:cubicBezTo>
                  <a:pt x="8640960" y="4664429"/>
                  <a:pt x="8264830" y="5040559"/>
                  <a:pt x="7800850" y="5040559"/>
                </a:cubicBezTo>
                <a:lnTo>
                  <a:pt x="0" y="5040560"/>
                </a:lnTo>
                <a:lnTo>
                  <a:pt x="0" y="5040560"/>
                </a:lnTo>
                <a:lnTo>
                  <a:pt x="0" y="840110"/>
                </a:lnTo>
                <a:cubicBezTo>
                  <a:pt x="0" y="376130"/>
                  <a:pt x="376130" y="0"/>
                  <a:pt x="84011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395280" y="2062080"/>
            <a:ext cx="860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探访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难堪的风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杭州市中河路地面道路的中央隔离带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身着橙黄色工作服的环卫工黄红梅正在弯腰捡拾垃圾。近在咫尺的机动车道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往车辆川流不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短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分钟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见她左手拿一个大号饮料纸杯和纸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手拿一个空可乐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经腾不出手来捡拾更多垃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“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早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条路的绿化带上垃圾更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多都是从车子里丢出来的。”黄红梅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上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都会沿着中河路的凤起路到环城北路段的绿化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回走两公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拾满整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桶的垃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话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辆牌照为“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RE×××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黑色丰田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中河路靠近体育场路附近等待绿灯时摇下车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扔出一个纸团。纸团在地上滚了几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点扎眼地停在干净的路面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黄红梅无奈地摇了摇头。不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让环卫工人无奈的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有时上前制止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遇到对方的抢白。在百井坊路和延安路清扫垃圾的环卫工叶金玉告诉记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曾上前对停车扔垃圾的司机提出劝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想到对方立即“还击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扫你的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们都没事情好做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对角圆角矩形 3"/>
          <p:cNvSpPr/>
          <p:nvPr/>
        </p:nvSpPr>
        <p:spPr>
          <a:xfrm>
            <a:off x="395280" y="1052640"/>
            <a:ext cx="8497800" cy="5113080"/>
          </a:xfrm>
          <a:custGeom>
            <a:avLst/>
            <a:gdLst/>
            <a:ahLst/>
            <a:rect l="l" t="t" r="r" b="b"/>
            <a:pathLst>
              <a:path w="8496944" h="5112568">
                <a:moveTo>
                  <a:pt x="852111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4260456"/>
                </a:lnTo>
                <a:cubicBezTo>
                  <a:pt x="8496944" y="4731064"/>
                  <a:pt x="8115441" y="5112567"/>
                  <a:pt x="7644833" y="5112567"/>
                </a:cubicBezTo>
                <a:lnTo>
                  <a:pt x="0" y="5112568"/>
                </a:lnTo>
                <a:lnTo>
                  <a:pt x="0" y="5112568"/>
                </a:lnTo>
                <a:lnTo>
                  <a:pt x="0" y="852111"/>
                </a:lnTo>
                <a:cubicBezTo>
                  <a:pt x="0" y="381503"/>
                  <a:pt x="381503" y="0"/>
                  <a:pt x="8521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1877040" y="931320"/>
            <a:ext cx="5861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调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隐形的杀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轻轻一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破坏的是整洁和文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威胁行车安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曾有一个实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赛车道旁放置一块检验合格的汽车挡风玻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赛车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每小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里的速度向这块挡风玻璃驶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随手扔出一个苹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击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挡风玻璃瞬间裂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没有防护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成了碎片。在另一个实验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两重的空矿泉水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时速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里的状态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将钢化玻璃砸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在杭州开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租车的司机李洋告诉记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开车途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前方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有异物“飞”过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第一反应就是避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样很容易因为多打方向盘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交通事故。而环卫工人则成了“车窗抛物”的一大受害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湖北一位环卫工在道路中间捡拾一个烟盒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被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辆越野车撞向对向车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被对向车道的面包车迎面撞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幸身亡。去世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卫工手里还紧紧攥着刚刚捡起的烟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据不完全统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201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州市撞伤、撞死环卫工的交通事故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就有一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两起为死亡事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2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为较严重事故。而车窗抛物是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这些交通事故的主要诱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去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的一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杭州环卫工叶金玉在快车道上清理垃圾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被一辆出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撞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幸只是皮外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对角圆角矩形 3"/>
          <p:cNvSpPr/>
          <p:nvPr/>
        </p:nvSpPr>
        <p:spPr>
          <a:xfrm>
            <a:off x="395280" y="981000"/>
            <a:ext cx="8569440" cy="5256360"/>
          </a:xfrm>
          <a:custGeom>
            <a:avLst/>
            <a:gdLst/>
            <a:ahLst/>
            <a:rect l="l" t="t" r="r" b="b"/>
            <a:pathLst>
              <a:path w="8568952" h="5256584">
                <a:moveTo>
                  <a:pt x="876114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4380469"/>
                </a:lnTo>
                <a:cubicBezTo>
                  <a:pt x="8568952" y="4864333"/>
                  <a:pt x="8176702" y="5256583"/>
                  <a:pt x="7692838" y="5256583"/>
                </a:cubicBezTo>
                <a:lnTo>
                  <a:pt x="0" y="5256584"/>
                </a:lnTo>
                <a:lnTo>
                  <a:pt x="0" y="5256584"/>
                </a:lnTo>
                <a:lnTo>
                  <a:pt x="0" y="876114"/>
                </a:lnTo>
                <a:cubicBezTo>
                  <a:pt x="0" y="392250"/>
                  <a:pt x="392250" y="0"/>
                  <a:pt x="87611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3967920" y="105300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建议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处罚下猛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468360" y="234504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杭州高速交警二大队副大队长竺春璋告诉记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日常巡逻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窗抛物及货车抛洒滴漏的情况时有发现。不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车窗抛物时间、地点不固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瞬间发生的违法行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稍纵即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法取证难度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致一些乘客、司机心存侥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忽视公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肆意妄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记者从交警部门了解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路安全交通法规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乘车人不得向车外抛撒物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违者可处以警告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以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以下罚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动车载物不得遗洒、飘散载运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违者可以处警告或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以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以下罚款。《浙江省城市市容和环境卫生管理条例》规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乱扔果皮、纸屑、烟蒂、饮料罐、口香糖、塑料袋等废弃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以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以下罚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“很明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行法规对车窗抛物的处罚太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形成有力震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而造成这么多悲剧。”竺春璋表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尽快完善法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“重典”、下“猛药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大对类似车窗抛物这种恶劣行为的惩处力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有望从根本上解决问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于“天降横祸”的风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050080" y="559008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自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《浙江日报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对角圆角矩形 6"/>
          <p:cNvSpPr/>
          <p:nvPr/>
        </p:nvSpPr>
        <p:spPr>
          <a:xfrm>
            <a:off x="395280" y="1052640"/>
            <a:ext cx="8497800" cy="5040360"/>
          </a:xfrm>
          <a:custGeom>
            <a:avLst/>
            <a:gdLst/>
            <a:ahLst/>
            <a:rect l="l" t="t" r="r" b="b"/>
            <a:pathLst>
              <a:path w="8496944" h="5040560">
                <a:moveTo>
                  <a:pt x="840110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4200449"/>
                </a:lnTo>
                <a:cubicBezTo>
                  <a:pt x="8496944" y="4664429"/>
                  <a:pt x="8120814" y="5040559"/>
                  <a:pt x="7656834" y="5040559"/>
                </a:cubicBezTo>
                <a:lnTo>
                  <a:pt x="0" y="5040560"/>
                </a:lnTo>
                <a:lnTo>
                  <a:pt x="0" y="5040560"/>
                </a:lnTo>
                <a:lnTo>
                  <a:pt x="0" y="840110"/>
                </a:lnTo>
                <a:cubicBezTo>
                  <a:pt x="0" y="376130"/>
                  <a:pt x="376130" y="0"/>
                  <a:pt x="84011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539640" y="129780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下列对这则新闻的分析和概括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确的一项是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闻的引题“车窗抛物屡见不鲜”表明了作者的观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“扔掉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仅是文明”概括了主要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访”部分介绍了杭州中河路地面道路上环卫工黄红梅工作的辛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吁人们要珍惜保洁人员的劳动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中的插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绘了行驶中的小轿车被前方面包车上抛出的酒瓶砸中的场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在配合这则新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酒驾的危害性很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者报道这则新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是告诉人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窗抛物”是马路上常见的一种交通陋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是一种违法行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会威胁行车安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容忽视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539640" y="378936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D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分析新闻内容和理解新闻主题的能力。认真阅读每个选项的内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逐一分析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应是新闻的引题“车窗抛物屡见不鲜”概括了主要内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主标题“扔掉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仅是文明”表明了作者的观点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探访”部分介绍了杭州中河路地面道路上环卫工黄红梅工作的辛苦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要目的是呼吁车窗抛物的现象应引起人们的关注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也是对“车窗抛物”现象的讽刺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中的插图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描绘了行驶中的小轿车被前方面包车上抛出的酒瓶砸中的场景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意在说明“车窗抛物”屡见不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也说明了这种不文明行为的危害和造成的损失之大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对角圆角矩形 4"/>
          <p:cNvSpPr/>
          <p:nvPr/>
        </p:nvSpPr>
        <p:spPr>
          <a:xfrm>
            <a:off x="468360" y="981000"/>
            <a:ext cx="8424720" cy="2808360"/>
          </a:xfrm>
          <a:custGeom>
            <a:avLst/>
            <a:gdLst/>
            <a:ahLst/>
            <a:rect l="l" t="t" r="r" b="b"/>
            <a:pathLst>
              <a:path w="8424936" h="2808312">
                <a:moveTo>
                  <a:pt x="468061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2340250"/>
                </a:lnTo>
                <a:cubicBezTo>
                  <a:pt x="8424936" y="2598753"/>
                  <a:pt x="8215378" y="2808311"/>
                  <a:pt x="7956875" y="2808311"/>
                </a:cubicBezTo>
                <a:lnTo>
                  <a:pt x="0" y="2808312"/>
                </a:lnTo>
                <a:lnTo>
                  <a:pt x="0" y="2808312"/>
                </a:lnTo>
                <a:lnTo>
                  <a:pt x="0" y="468061"/>
                </a:lnTo>
                <a:cubicBezTo>
                  <a:pt x="0" y="209558"/>
                  <a:pt x="209558" y="0"/>
                  <a:pt x="46806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对角圆角矩形 5"/>
          <p:cNvSpPr/>
          <p:nvPr/>
        </p:nvSpPr>
        <p:spPr>
          <a:xfrm>
            <a:off x="395280" y="3860640"/>
            <a:ext cx="8497800" cy="2376720"/>
          </a:xfrm>
          <a:custGeom>
            <a:avLst/>
            <a:gdLst/>
            <a:ahLst/>
            <a:rect l="l" t="t" r="r" b="b"/>
            <a:pathLst>
              <a:path w="8496944" h="2376264">
                <a:moveTo>
                  <a:pt x="396051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1980212"/>
                </a:lnTo>
                <a:cubicBezTo>
                  <a:pt x="8496944" y="2198945"/>
                  <a:pt x="8319626" y="2376263"/>
                  <a:pt x="8100893" y="2376263"/>
                </a:cubicBezTo>
                <a:lnTo>
                  <a:pt x="0" y="2376264"/>
                </a:lnTo>
                <a:lnTo>
                  <a:pt x="0" y="2376264"/>
                </a:lnTo>
                <a:lnTo>
                  <a:pt x="0" y="396051"/>
                </a:lnTo>
                <a:cubicBezTo>
                  <a:pt x="0" y="177318"/>
                  <a:pt x="177318" y="0"/>
                  <a:pt x="39605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8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611280" y="1272240"/>
            <a:ext cx="8048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闻从“张先生高速公路上驾车被矿泉水瓶砸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挡风玻璃”写起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何作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4360" y="270828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激发读者的兴趣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发读者思考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出“车窗抛物”这一话题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理解开头段落作用的能力。开头段一般有如下作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总领下文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出下文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下文做铺垫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激发读者阅读兴趣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发读者思考等。根据第一段内容以及与下文的联系回答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对角圆角矩形 4"/>
          <p:cNvSpPr/>
          <p:nvPr/>
        </p:nvSpPr>
        <p:spPr>
          <a:xfrm>
            <a:off x="468360" y="1341360"/>
            <a:ext cx="8351640" cy="1224000"/>
          </a:xfrm>
          <a:custGeom>
            <a:avLst/>
            <a:gdLst/>
            <a:ahLst/>
            <a:rect l="l" t="t" r="r" b="b"/>
            <a:pathLst>
              <a:path w="8352928" h="1224136">
                <a:moveTo>
                  <a:pt x="204026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1020109"/>
                </a:lnTo>
                <a:cubicBezTo>
                  <a:pt x="8352928" y="1132789"/>
                  <a:pt x="8261582" y="1224135"/>
                  <a:pt x="8148902" y="1224135"/>
                </a:cubicBezTo>
                <a:lnTo>
                  <a:pt x="0" y="1224136"/>
                </a:lnTo>
                <a:lnTo>
                  <a:pt x="0" y="1224136"/>
                </a:lnTo>
                <a:lnTo>
                  <a:pt x="0" y="204026"/>
                </a:lnTo>
                <a:cubicBezTo>
                  <a:pt x="0" y="91346"/>
                  <a:pt x="91346" y="0"/>
                  <a:pt x="20402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标注 5"/>
          <p:cNvSpPr/>
          <p:nvPr/>
        </p:nvSpPr>
        <p:spPr>
          <a:xfrm>
            <a:off x="468360" y="2781360"/>
            <a:ext cx="8351640" cy="3311640"/>
          </a:xfrm>
          <a:prstGeom prst="wedgeRoundRectCallout">
            <a:avLst>
              <a:gd name="adj1" fmla="val 453"/>
              <a:gd name="adj2" fmla="val -5559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5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8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2974680" y="844560"/>
            <a:ext cx="31370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闻讲究时效性、真实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分析这则新闻是如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539640" y="2241720"/>
            <a:ext cx="8353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闻中探访事件发生的具体时间是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下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时许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本文发表时间是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仅一天之差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充分体现了新闻的时效性。“真实性”体现在以下几个方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是采访经过是真实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具体时间、地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及具体人物、事件经过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是新闻中还列举了一些真实的案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是新闻中提供了许多准确的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对角圆角矩形 4"/>
          <p:cNvSpPr/>
          <p:nvPr/>
        </p:nvSpPr>
        <p:spPr>
          <a:xfrm>
            <a:off x="395280" y="981000"/>
            <a:ext cx="8353440" cy="1295640"/>
          </a:xfrm>
          <a:custGeom>
            <a:avLst/>
            <a:gdLst/>
            <a:ahLst/>
            <a:rect l="l" t="t" r="r" b="b"/>
            <a:pathLst>
              <a:path w="8352928" h="1296144">
                <a:moveTo>
                  <a:pt x="216028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1080115"/>
                </a:lnTo>
                <a:cubicBezTo>
                  <a:pt x="8352928" y="1199424"/>
                  <a:pt x="8256209" y="1296143"/>
                  <a:pt x="8136900" y="1296143"/>
                </a:cubicBezTo>
                <a:lnTo>
                  <a:pt x="0" y="1296144"/>
                </a:lnTo>
                <a:lnTo>
                  <a:pt x="0" y="1296144"/>
                </a:lnTo>
                <a:lnTo>
                  <a:pt x="0" y="216028"/>
                </a:lnTo>
                <a:cubicBezTo>
                  <a:pt x="0" y="96719"/>
                  <a:pt x="96719" y="0"/>
                  <a:pt x="21602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对角圆角矩形 5"/>
          <p:cNvSpPr/>
          <p:nvPr/>
        </p:nvSpPr>
        <p:spPr>
          <a:xfrm>
            <a:off x="324000" y="2349360"/>
            <a:ext cx="8496000" cy="3743640"/>
          </a:xfrm>
          <a:custGeom>
            <a:avLst/>
            <a:gdLst/>
            <a:ahLst/>
            <a:rect l="l" t="t" r="r" b="b"/>
            <a:pathLst>
              <a:path w="8496944" h="3744416">
                <a:moveTo>
                  <a:pt x="624081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120334"/>
                </a:lnTo>
                <a:cubicBezTo>
                  <a:pt x="8496944" y="3465004"/>
                  <a:pt x="8217533" y="3744415"/>
                  <a:pt x="7872863" y="3744415"/>
                </a:cubicBezTo>
                <a:lnTo>
                  <a:pt x="0" y="3744416"/>
                </a:lnTo>
                <a:lnTo>
                  <a:pt x="0" y="3744416"/>
                </a:lnTo>
                <a:lnTo>
                  <a:pt x="0" y="624081"/>
                </a:lnTo>
                <a:cubicBezTo>
                  <a:pt x="0" y="279411"/>
                  <a:pt x="279411" y="0"/>
                  <a:pt x="62408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4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9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395280" y="90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这则新闻内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究“车窗抛物屡见不鲜”的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1930320" y="1331640"/>
            <a:ext cx="5537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们对“车窗抛物”这种陋习的认识不到位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没有意识到“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窗抛物”这种行为不仅仅是一种陋习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还具有危害性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没有认识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这是一种违法行为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②一部分人的文明素养不高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心存侥幸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知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犯法。③现有法律或条例处罚力度较轻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题考查阅读拓展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伸的能力。结合文意和生活实际探究原因的能力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也是中考常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题型。探究原因应是文中作者对新闻事件的看法和建议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首先应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这种车窗抛物行为的性质有清醒的认识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可从道德和法律的角度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行原因分析和概括。概括时可先找出相关段落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再根据内容概括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答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对角圆角矩形 4"/>
          <p:cNvSpPr/>
          <p:nvPr/>
        </p:nvSpPr>
        <p:spPr>
          <a:xfrm>
            <a:off x="179280" y="981000"/>
            <a:ext cx="8785440" cy="5256360"/>
          </a:xfrm>
          <a:custGeom>
            <a:avLst/>
            <a:gdLst/>
            <a:ahLst/>
            <a:rect l="l" t="t" r="r" b="b"/>
            <a:pathLst>
              <a:path w="8784976" h="5256584">
                <a:moveTo>
                  <a:pt x="876114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4380469"/>
                </a:lnTo>
                <a:cubicBezTo>
                  <a:pt x="8784976" y="4864333"/>
                  <a:pt x="8392726" y="5256583"/>
                  <a:pt x="7908862" y="5256583"/>
                </a:cubicBezTo>
                <a:lnTo>
                  <a:pt x="0" y="5256584"/>
                </a:lnTo>
                <a:lnTo>
                  <a:pt x="0" y="5256584"/>
                </a:lnTo>
                <a:lnTo>
                  <a:pt x="0" y="876114"/>
                </a:lnTo>
                <a:cubicBezTo>
                  <a:pt x="0" y="392250"/>
                  <a:pt x="392250" y="0"/>
                  <a:pt x="87611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8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9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1855440" y="848520"/>
            <a:ext cx="581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课堂小练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第二则新闻语言简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喻贴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动形象。例如“不仅是树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是森林了。不仅生了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枝叶茂盛了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使用比喻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辞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但写出了在群众的支持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革命迅猛发展的态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含有对国民党的辛辣嘲讽。请你运用这种写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写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写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表达一个道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注意语言简练、中心突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133000" y="3512160"/>
            <a:ext cx="535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寻找幸福的人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有两类。一类像是在登山。他们以为人生最大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幸福在山顶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于是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气喘吁吁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穷尽一生去攀登。却发现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永远登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到顶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最终也看不到头。其实他们并不知道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幸福这座山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原本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没有顶、没有头。另一类人也像在登山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但他们并不刻意要登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哪里。一路上走走停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看看流岚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赏赏霓虹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吹吹清风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心灵在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松中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得到某种自足。尽管不得大愉悦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但是这些琐碎而细微的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在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萦绕于心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样芬芳身心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恬静自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对角圆角矩形 6"/>
          <p:cNvSpPr/>
          <p:nvPr/>
        </p:nvSpPr>
        <p:spPr>
          <a:xfrm>
            <a:off x="324000" y="907920"/>
            <a:ext cx="8640720" cy="2521080"/>
          </a:xfrm>
          <a:custGeom>
            <a:avLst/>
            <a:gdLst/>
            <a:ahLst/>
            <a:rect l="l" t="t" r="r" b="b"/>
            <a:pathLst>
              <a:path w="8640960" h="2520280">
                <a:moveTo>
                  <a:pt x="420055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2100224"/>
                </a:lnTo>
                <a:cubicBezTo>
                  <a:pt x="8640960" y="2332214"/>
                  <a:pt x="8452895" y="2520279"/>
                  <a:pt x="8220905" y="2520279"/>
                </a:cubicBezTo>
                <a:lnTo>
                  <a:pt x="0" y="2520280"/>
                </a:lnTo>
                <a:lnTo>
                  <a:pt x="0" y="2520280"/>
                </a:lnTo>
                <a:lnTo>
                  <a:pt x="0" y="420055"/>
                </a:lnTo>
                <a:cubicBezTo>
                  <a:pt x="0" y="188065"/>
                  <a:pt x="188065" y="0"/>
                  <a:pt x="42005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对角圆角矩形 8"/>
          <p:cNvSpPr/>
          <p:nvPr/>
        </p:nvSpPr>
        <p:spPr>
          <a:xfrm>
            <a:off x="324000" y="3500280"/>
            <a:ext cx="8640720" cy="2592720"/>
          </a:xfrm>
          <a:custGeom>
            <a:avLst/>
            <a:gdLst/>
            <a:ahLst/>
            <a:rect l="l" t="t" r="r" b="b"/>
            <a:pathLst>
              <a:path w="8640960" h="2592288">
                <a:moveTo>
                  <a:pt x="432056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2160231"/>
                </a:lnTo>
                <a:cubicBezTo>
                  <a:pt x="8640960" y="2398849"/>
                  <a:pt x="8447522" y="2592287"/>
                  <a:pt x="8208904" y="2592287"/>
                </a:cubicBezTo>
                <a:lnTo>
                  <a:pt x="0" y="2592288"/>
                </a:lnTo>
                <a:lnTo>
                  <a:pt x="0" y="2592288"/>
                </a:lnTo>
                <a:lnTo>
                  <a:pt x="0" y="432056"/>
                </a:lnTo>
                <a:cubicBezTo>
                  <a:pt x="0" y="193438"/>
                  <a:pt x="193438" y="0"/>
                  <a:pt x="43205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2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1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bt6b.jpg" descr=""/>
          <p:cNvPicPr/>
          <p:nvPr/>
        </p:nvPicPr>
        <p:blipFill>
          <a:blip r:embed="rId1"/>
          <a:stretch/>
        </p:blipFill>
        <p:spPr>
          <a:xfrm>
            <a:off x="3274920" y="189000"/>
            <a:ext cx="338472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324000" y="1052640"/>
          <a:ext cx="8461080" cy="5256000"/>
        </p:xfrm>
        <a:graphic>
          <a:graphicData uri="http://schemas.openxmlformats.org/drawingml/2006/table">
            <a:tbl>
              <a:tblPr/>
              <a:tblGrid>
                <a:gridCol w="752040"/>
                <a:gridCol w="7709040"/>
              </a:tblGrid>
              <a:tr h="51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归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　　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21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矩形 6"/>
          <p:cNvSpPr/>
          <p:nvPr/>
        </p:nvSpPr>
        <p:spPr>
          <a:xfrm>
            <a:off x="1187280" y="1628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写新闻标题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压缩语段的一种传统题型。新闻标题由主题、引题和副题组成。主题是对新闻中最主要内容的高度概括。引题和副题则是用来说明主题或加强主题的气氛和力量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主题共同完成标题任务的。只要主题能够独立承担标题的任务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题和副题就可以省去。新闻标题要求题文一致、一语破的、简洁明快、旗帜鲜明、生动活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1116000" y="4181760"/>
            <a:ext cx="74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写正标题时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导语的新闻语段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在导语中筛选相关的信息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导语的新闻语段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在主体部分筛选相关的信息。然后将这些信息进行整合、归纳、概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成表意完整的句子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大致的主标题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写引标题时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把目光锁定在新闻的背景中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背景是介绍主体事件发生的背景、目的、原因的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注意“在……下”“为了……”等表明事件背景或行为目的的词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写副标题时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把目光锁定在结束语部分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结束语是交代新闻主体事件的意义、作用、影响和对未来发展方向的预测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捕捉那些能够表明主体事件的意义、作用、影响或对未来发展方向预测的关键词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写时还要注意对标题进行修改润色。从词语方面讲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要使用生动、形象、贴切的词语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修辞方面讲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要通过用比喻、排比、借代、比拟、对偶、设问、反问等修辞手法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语言生动活泼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富有表现力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句式方面讲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要多用对偶、排比等句式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成严谨、整齐、凝练、鲜明的印象。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3846960" y="119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写新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961200" y="15580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611280" y="29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84000" y="2060640"/>
            <a:ext cx="1619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52388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要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2388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è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阻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2388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瓶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358880" y="28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497920" y="1916280"/>
            <a:ext cx="1737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ě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解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è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押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è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解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613800" y="50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1332000" y="4221000"/>
            <a:ext cx="251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ù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宿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ù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星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ǔ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半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574880" y="501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542560" y="4508640"/>
            <a:ext cx="2442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锐不可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恰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左大括号 15"/>
          <p:cNvSpPr/>
          <p:nvPr/>
        </p:nvSpPr>
        <p:spPr>
          <a:xfrm>
            <a:off x="1258920" y="2421000"/>
            <a:ext cx="46080" cy="1439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1439640"/>
              <a:gd name="textAreaBottom" fmla="*/ 143856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"/>
                  <a:pt x="10800" y="57"/>
                </a:cubicBezTo>
                <a:lnTo>
                  <a:pt x="10800" y="10743"/>
                </a:lnTo>
                <a:cubicBezTo>
                  <a:pt x="10800" y="10772"/>
                  <a:pt x="5400" y="10800"/>
                  <a:pt x="0" y="10800"/>
                </a:cubicBezTo>
                <a:cubicBezTo>
                  <a:pt x="5400" y="10800"/>
                  <a:pt x="10800" y="10829"/>
                  <a:pt x="10800" y="10857"/>
                </a:cubicBezTo>
                <a:lnTo>
                  <a:pt x="10800" y="21543"/>
                </a:lnTo>
                <a:cubicBezTo>
                  <a:pt x="10800" y="2157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左大括号 16"/>
          <p:cNvSpPr/>
          <p:nvPr/>
        </p:nvSpPr>
        <p:spPr>
          <a:xfrm>
            <a:off x="1187280" y="4581360"/>
            <a:ext cx="46080" cy="144000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1440000"/>
              <a:gd name="textAreaBottom" fmla="*/ 143892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"/>
                  <a:pt x="10800" y="57"/>
                </a:cubicBezTo>
                <a:lnTo>
                  <a:pt x="10800" y="10743"/>
                </a:lnTo>
                <a:cubicBezTo>
                  <a:pt x="10800" y="10772"/>
                  <a:pt x="5400" y="10800"/>
                  <a:pt x="0" y="10800"/>
                </a:cubicBezTo>
                <a:cubicBezTo>
                  <a:pt x="5400" y="10800"/>
                  <a:pt x="10800" y="10829"/>
                  <a:pt x="10800" y="10857"/>
                </a:cubicBezTo>
                <a:lnTo>
                  <a:pt x="10800" y="21543"/>
                </a:lnTo>
                <a:cubicBezTo>
                  <a:pt x="10800" y="2157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17"/>
          <p:cNvSpPr/>
          <p:nvPr/>
        </p:nvSpPr>
        <p:spPr>
          <a:xfrm>
            <a:off x="5076720" y="479736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008000"/>
              <a:gd name="textAreaBottom" fmla="*/ 10026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5400" y="10800"/>
                  <a:pt x="0" y="10800"/>
                </a:cubicBezTo>
                <a:cubicBezTo>
                  <a:pt x="54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左大括号 18"/>
          <p:cNvSpPr/>
          <p:nvPr/>
        </p:nvSpPr>
        <p:spPr>
          <a:xfrm>
            <a:off x="5003640" y="2276640"/>
            <a:ext cx="46080" cy="1439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1439640"/>
              <a:gd name="textAreaBottom" fmla="*/ 143856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"/>
                  <a:pt x="10800" y="57"/>
                </a:cubicBezTo>
                <a:lnTo>
                  <a:pt x="10800" y="10743"/>
                </a:lnTo>
                <a:cubicBezTo>
                  <a:pt x="10800" y="10772"/>
                  <a:pt x="5400" y="10800"/>
                  <a:pt x="0" y="10800"/>
                </a:cubicBezTo>
                <a:cubicBezTo>
                  <a:pt x="5400" y="10800"/>
                  <a:pt x="10800" y="10829"/>
                  <a:pt x="10800" y="10857"/>
                </a:cubicBezTo>
                <a:lnTo>
                  <a:pt x="10800" y="21543"/>
                </a:lnTo>
                <a:cubicBezTo>
                  <a:pt x="10800" y="2157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bt6b.jpg" descr=""/>
          <p:cNvPicPr/>
          <p:nvPr/>
        </p:nvPicPr>
        <p:blipFill>
          <a:blip r:embed="rId1"/>
          <a:stretch/>
        </p:blipFill>
        <p:spPr>
          <a:xfrm>
            <a:off x="3274920" y="189000"/>
            <a:ext cx="3384720" cy="792000"/>
          </a:xfrm>
          <a:prstGeom prst="rect">
            <a:avLst/>
          </a:prstGeom>
          <a:ln w="0">
            <a:noFill/>
          </a:ln>
        </p:spPr>
      </p:pic>
      <p:pic>
        <p:nvPicPr>
          <p:cNvPr id="267" name="bt45.jpg" descr=""/>
          <p:cNvPicPr/>
          <p:nvPr/>
        </p:nvPicPr>
        <p:blipFill>
          <a:blip r:embed="rId2"/>
          <a:stretch/>
        </p:blipFill>
        <p:spPr>
          <a:xfrm>
            <a:off x="395280" y="1123920"/>
            <a:ext cx="3240000" cy="576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179280" y="1689120"/>
            <a:ext cx="913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江西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作为新闻标题最恰当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晨报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者　王歧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为纪念抗战胜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市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启动抗战文物险情排查工作。北京市文物局日前通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完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抗战文物的保养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市文物局相关负责人介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市抗战类文物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焦庄户抗战遗址等一批抗战文物进行了不同程度的修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次文物修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是对地堡类文物周边进行降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原入口加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做地面和排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设自渗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装文物保护标志牌、说明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对角圆角矩形 4"/>
          <p:cNvSpPr/>
          <p:nvPr/>
        </p:nvSpPr>
        <p:spPr>
          <a:xfrm>
            <a:off x="250920" y="1773360"/>
            <a:ext cx="8713800" cy="4392360"/>
          </a:xfrm>
          <a:custGeom>
            <a:avLst/>
            <a:gdLst/>
            <a:ahLst/>
            <a:rect l="l" t="t" r="r" b="b"/>
            <a:pathLst>
              <a:path w="8712968" h="4392488">
                <a:moveTo>
                  <a:pt x="732095" y="0"/>
                </a:moveTo>
                <a:lnTo>
                  <a:pt x="8712968" y="0"/>
                </a:lnTo>
                <a:lnTo>
                  <a:pt x="8712968" y="0"/>
                </a:lnTo>
                <a:lnTo>
                  <a:pt x="8712968" y="3660392"/>
                </a:lnTo>
                <a:cubicBezTo>
                  <a:pt x="8712968" y="4064717"/>
                  <a:pt x="8385198" y="4392487"/>
                  <a:pt x="7980873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bt6b.jpg" descr=""/>
          <p:cNvPicPr/>
          <p:nvPr/>
        </p:nvPicPr>
        <p:blipFill>
          <a:blip r:embed="rId1"/>
          <a:stretch/>
        </p:blipFill>
        <p:spPr>
          <a:xfrm>
            <a:off x="3203640" y="115920"/>
            <a:ext cx="3384360" cy="792000"/>
          </a:xfrm>
          <a:prstGeom prst="rect">
            <a:avLst/>
          </a:prstGeom>
          <a:ln w="0">
            <a:noFill/>
          </a:ln>
        </p:spPr>
      </p:pic>
      <p:pic>
        <p:nvPicPr>
          <p:cNvPr id="271" name="bt45.jpg" descr=""/>
          <p:cNvPicPr/>
          <p:nvPr/>
        </p:nvPicPr>
        <p:blipFill>
          <a:blip r:embed="rId2"/>
          <a:stretch/>
        </p:blipFill>
        <p:spPr>
          <a:xfrm>
            <a:off x="466560" y="765000"/>
            <a:ext cx="3384720" cy="574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1726560" y="1393560"/>
            <a:ext cx="57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者还了解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抗战文物保护工作并不平衡。各级抗战文物的保护情况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乐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部分存在局部残损的情况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部分损坏严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纪念抗战胜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　　　　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战文物保护工作并不平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启动抗战文物险情排查工作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开始保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抗战文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854720" y="3213000"/>
            <a:ext cx="559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是一道拟新闻标题题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考查学生的理解、分析、概括、表达等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是一则消息。消息就是新鲜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消息的作用是报道新近发生的事实。它由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题、导语、主体、结尾、背景构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体是对导语的补充、具体化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导语则对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题作展开。这样看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体针对导语的哪个意思具体化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们就可据此确定消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道的事件。这则消息从主体来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要告诉读者北京修缮、保护抗战文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情况。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答案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对角圆角矩形 5"/>
          <p:cNvSpPr/>
          <p:nvPr/>
        </p:nvSpPr>
        <p:spPr>
          <a:xfrm>
            <a:off x="179280" y="1341360"/>
            <a:ext cx="8785440" cy="4608720"/>
          </a:xfrm>
          <a:custGeom>
            <a:avLst/>
            <a:gdLst/>
            <a:ahLst/>
            <a:rect l="l" t="t" r="r" b="b"/>
            <a:pathLst>
              <a:path w="8784976" h="4608512">
                <a:moveTo>
                  <a:pt x="768100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3840411"/>
                </a:lnTo>
                <a:cubicBezTo>
                  <a:pt x="8784976" y="4264621"/>
                  <a:pt x="8441086" y="4608511"/>
                  <a:pt x="8016876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0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5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bt46.jpg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2950920" cy="503280"/>
          </a:xfrm>
          <a:prstGeom prst="rect">
            <a:avLst/>
          </a:prstGeom>
          <a:ln w="0">
            <a:noFill/>
          </a:ln>
        </p:spPr>
      </p:pic>
      <p:pic>
        <p:nvPicPr>
          <p:cNvPr id="276" name="bt6b.jpg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3745080" cy="792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1576080" y="933480"/>
            <a:ext cx="63327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宁夏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面这则新闻拟写一个标题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超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本报讯　中国人百米跑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大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不仅是中国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是黄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第一次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内跑完百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时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凌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美国尤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行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国际田联钻石联赛尤金站男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比赛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手苏炳添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成绩获得季军。苏炳添成为历史上首位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大关的黄种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也打破了张培萌保持了两年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纪录。苏炳添是继“飞人”刘翔之后中国田径史上的又一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旗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示例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中国“新飞人”苏炳添创造黄种人百米历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对角圆角矩形 4"/>
          <p:cNvSpPr/>
          <p:nvPr/>
        </p:nvSpPr>
        <p:spPr>
          <a:xfrm>
            <a:off x="179280" y="1052640"/>
            <a:ext cx="8785440" cy="5040360"/>
          </a:xfrm>
          <a:custGeom>
            <a:avLst/>
            <a:gdLst/>
            <a:ahLst/>
            <a:rect l="l" t="t" r="r" b="b"/>
            <a:pathLst>
              <a:path w="8784976" h="5040560">
                <a:moveTo>
                  <a:pt x="840110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4200449"/>
                </a:lnTo>
                <a:cubicBezTo>
                  <a:pt x="8784976" y="4664429"/>
                  <a:pt x="8408846" y="5040559"/>
                  <a:pt x="7944866" y="5040559"/>
                </a:cubicBezTo>
                <a:lnTo>
                  <a:pt x="0" y="5040560"/>
                </a:lnTo>
                <a:lnTo>
                  <a:pt x="0" y="5040560"/>
                </a:lnTo>
                <a:lnTo>
                  <a:pt x="0" y="840110"/>
                </a:lnTo>
                <a:cubicBezTo>
                  <a:pt x="0" y="376130"/>
                  <a:pt x="376130" y="0"/>
                  <a:pt x="84011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1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260000" y="1989000"/>
            <a:ext cx="2104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荻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ò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获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69760" y="1916280"/>
            <a:ext cx="197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溃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溃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馈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042560" y="3789360"/>
            <a:ext cx="2029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绥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uí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绥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ě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气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430600" y="3645000"/>
            <a:ext cx="2198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歼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歼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阡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纤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纤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95280" y="1414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左大括号 10"/>
          <p:cNvSpPr/>
          <p:nvPr/>
        </p:nvSpPr>
        <p:spPr>
          <a:xfrm>
            <a:off x="755640" y="213372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079280"/>
              <a:gd name="textAreaBottom" fmla="*/ 10756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左大括号 11"/>
          <p:cNvSpPr/>
          <p:nvPr/>
        </p:nvSpPr>
        <p:spPr>
          <a:xfrm>
            <a:off x="4932360" y="220500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008000"/>
              <a:gd name="textAreaBottom" fmla="*/ 10026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5400" y="10800"/>
                  <a:pt x="0" y="10800"/>
                </a:cubicBezTo>
                <a:cubicBezTo>
                  <a:pt x="54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左大括号 12"/>
          <p:cNvSpPr/>
          <p:nvPr/>
        </p:nvSpPr>
        <p:spPr>
          <a:xfrm>
            <a:off x="4932360" y="400536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368360"/>
              <a:gd name="textAreaBottom" fmla="*/ 13647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3"/>
          <p:cNvSpPr/>
          <p:nvPr/>
        </p:nvSpPr>
        <p:spPr>
          <a:xfrm>
            <a:off x="684360" y="4005360"/>
            <a:ext cx="142560" cy="107928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1079280"/>
              <a:gd name="textAreaBottom" fmla="*/ 10756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对角圆角矩形 14"/>
          <p:cNvSpPr/>
          <p:nvPr/>
        </p:nvSpPr>
        <p:spPr>
          <a:xfrm>
            <a:off x="324000" y="1341360"/>
            <a:ext cx="7848360" cy="4319640"/>
          </a:xfrm>
          <a:custGeom>
            <a:avLst/>
            <a:gdLst/>
            <a:ahLst/>
            <a:rect l="l" t="t" r="r" b="b"/>
            <a:pathLst>
              <a:path w="7848872" h="4320480">
                <a:moveTo>
                  <a:pt x="720094" y="0"/>
                </a:moveTo>
                <a:lnTo>
                  <a:pt x="7848872" y="0"/>
                </a:lnTo>
                <a:lnTo>
                  <a:pt x="7848872" y="0"/>
                </a:lnTo>
                <a:lnTo>
                  <a:pt x="7848872" y="3600385"/>
                </a:lnTo>
                <a:cubicBezTo>
                  <a:pt x="7848872" y="3998082"/>
                  <a:pt x="7526475" y="4320479"/>
                  <a:pt x="7128778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Administrator\Desktop\花\4.gif"/>
          <p:cNvPicPr/>
          <p:nvPr/>
        </p:nvPicPr>
        <p:blipFill>
          <a:blip r:embed="rId2"/>
          <a:stretch/>
        </p:blipFill>
        <p:spPr>
          <a:xfrm>
            <a:off x="7667640" y="3284640"/>
            <a:ext cx="14763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816480" y="1398600"/>
            <a:ext cx="161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阻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溃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不可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绥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1864440" y="2060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已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864440" y="26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阻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2584080" y="31417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军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被打垮而后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2853720" y="3716280"/>
            <a:ext cx="12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锋利无比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可抵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1917720" y="4221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安抚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1403280" y="47242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军事上有重要意义的、有巩固的防御设备的据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对角圆角矩形 13"/>
          <p:cNvSpPr/>
          <p:nvPr/>
        </p:nvSpPr>
        <p:spPr>
          <a:xfrm>
            <a:off x="179280" y="1413000"/>
            <a:ext cx="8713800" cy="4464000"/>
          </a:xfrm>
          <a:custGeom>
            <a:avLst/>
            <a:gdLst/>
            <a:ahLst/>
            <a:rect l="l" t="t" r="r" b="b"/>
            <a:pathLst>
              <a:path w="8712968" h="4464496">
                <a:moveTo>
                  <a:pt x="744097" y="0"/>
                </a:moveTo>
                <a:lnTo>
                  <a:pt x="8712968" y="0"/>
                </a:lnTo>
                <a:lnTo>
                  <a:pt x="8712968" y="0"/>
                </a:lnTo>
                <a:lnTo>
                  <a:pt x="8712968" y="3720398"/>
                </a:lnTo>
                <a:cubicBezTo>
                  <a:pt x="8712968" y="4131351"/>
                  <a:pt x="8379824" y="4464495"/>
                  <a:pt x="7968871" y="4464495"/>
                </a:cubicBezTo>
                <a:lnTo>
                  <a:pt x="0" y="4464496"/>
                </a:lnTo>
                <a:lnTo>
                  <a:pt x="0" y="4464496"/>
                </a:lnTo>
                <a:lnTo>
                  <a:pt x="0" y="744097"/>
                </a:lnTo>
                <a:cubicBezTo>
                  <a:pt x="0" y="333144"/>
                  <a:pt x="333144" y="0"/>
                  <a:pt x="74409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6" name="矩形 4"/>
          <p:cNvSpPr/>
          <p:nvPr/>
        </p:nvSpPr>
        <p:spPr>
          <a:xfrm>
            <a:off x="539640" y="155736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毛泽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893—1976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伟大的政治家、思想家、军事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产阶级革命的卓越领导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人民解放军和中华人民共和国的主要缔造者和领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毛泽东思想的主要创立者。同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又是一位伟大的诗人。他一生写下了很多震撼人心、催人奋进的光辉诗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表作有《将革命进行到底》《中国社会各阶级的分析》《七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征》《卜算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咏梅》《西江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井冈山》等。他的诗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了博大的胸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豪迈的气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阔的意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之令人热血沸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奋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对角圆角矩形 5"/>
          <p:cNvSpPr/>
          <p:nvPr/>
        </p:nvSpPr>
        <p:spPr>
          <a:xfrm>
            <a:off x="324000" y="1413000"/>
            <a:ext cx="8569080" cy="4752720"/>
          </a:xfrm>
          <a:custGeom>
            <a:avLst/>
            <a:gdLst/>
            <a:ahLst/>
            <a:rect l="l" t="t" r="r" b="b"/>
            <a:pathLst>
              <a:path w="8568952" h="4752528">
                <a:moveTo>
                  <a:pt x="792103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960424"/>
                </a:lnTo>
                <a:cubicBezTo>
                  <a:pt x="8568952" y="4397890"/>
                  <a:pt x="8214315" y="4752527"/>
                  <a:pt x="7776849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2428920" y="1473120"/>
            <a:ext cx="4437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人民解放军百万大军横渡长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展示了震惊中外的渡江战役概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揭示了这则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息的核心内容。“百万”“横渡”两个词气势磅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胜利豪情跃然纸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中原我军解放南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指明了我军取得胜利的地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言简意赅。“我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放南阳”标志着解放战争由战略防御阶段转向战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攻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对角圆角矩形 5"/>
          <p:cNvSpPr/>
          <p:nvPr/>
        </p:nvSpPr>
        <p:spPr>
          <a:xfrm>
            <a:off x="539640" y="1484280"/>
            <a:ext cx="8209080" cy="4608720"/>
          </a:xfrm>
          <a:custGeom>
            <a:avLst/>
            <a:gdLst/>
            <a:ahLst/>
            <a:rect l="l" t="t" r="r" b="b"/>
            <a:pathLst>
              <a:path w="8208912" h="4608512">
                <a:moveTo>
                  <a:pt x="768100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840411"/>
                </a:lnTo>
                <a:cubicBezTo>
                  <a:pt x="8208912" y="4264621"/>
                  <a:pt x="7865022" y="4608511"/>
                  <a:pt x="7440812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2098080" y="1433160"/>
            <a:ext cx="526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人民解放军百万大军横渡长江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194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淮海、辽沈、平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大战役结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人民解放军在全国取得胜利已成定局。但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党反动政府依然负隅顽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对长江防线经过三个半月的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经营之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悍然拒绝签订国内和平协定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毛泽东主席和朱德总司令立即发布了《向全国进军的命令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人民解放军于该日凌晨发起了渡江战役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新华社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了毛泽东撰写的消息《我三十万大军胜利渡过长江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中路军万船齐发、突破敌阵、占领南岸广大地区的战况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毛泽东又撰写了这则全面报道前线最新战况的新闻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晚人民解放军解放南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宣告国民党反动政权的覆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中原我军解放南阳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则新闻发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战役已胜利结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文中的“杜聿明则刚从徐州飞到东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惨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逃到了葫芦岛”即指蒋军在辽沈战役中的失败。淮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役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发起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则新闻发电之时正是淮海战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前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对角圆角矩形 5"/>
          <p:cNvSpPr/>
          <p:nvPr/>
        </p:nvSpPr>
        <p:spPr>
          <a:xfrm>
            <a:off x="611280" y="1413000"/>
            <a:ext cx="7848360" cy="4752720"/>
          </a:xfrm>
          <a:custGeom>
            <a:avLst/>
            <a:gdLst/>
            <a:ahLst/>
            <a:rect l="l" t="t" r="r" b="b"/>
            <a:pathLst>
              <a:path w="7848872" h="4752528">
                <a:moveTo>
                  <a:pt x="792103" y="0"/>
                </a:moveTo>
                <a:lnTo>
                  <a:pt x="7848872" y="0"/>
                </a:lnTo>
                <a:lnTo>
                  <a:pt x="7848872" y="0"/>
                </a:lnTo>
                <a:lnTo>
                  <a:pt x="7848872" y="3960424"/>
                </a:lnTo>
                <a:cubicBezTo>
                  <a:pt x="7848872" y="4397890"/>
                  <a:pt x="7494235" y="4752527"/>
                  <a:pt x="7056769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5" dur="2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RJ1.eps" descr="id:2147499616;FounderCES"/>
          <p:cNvPicPr/>
          <p:nvPr/>
        </p:nvPicPr>
        <p:blipFill>
          <a:blip r:embed="rId2"/>
          <a:stretch/>
        </p:blipFill>
        <p:spPr>
          <a:xfrm>
            <a:off x="826920" y="1484280"/>
            <a:ext cx="7777440" cy="2089080"/>
          </a:xfrm>
          <a:prstGeom prst="rect">
            <a:avLst/>
          </a:prstGeom>
          <a:ln w="0">
            <a:noFill/>
          </a:ln>
        </p:spPr>
      </p:pic>
      <p:pic>
        <p:nvPicPr>
          <p:cNvPr id="142" name="RJ1-1.eps" descr="id:2147499623;FounderCES"/>
          <p:cNvPicPr/>
          <p:nvPr/>
        </p:nvPicPr>
        <p:blipFill>
          <a:blip r:embed="rId3"/>
          <a:stretch/>
        </p:blipFill>
        <p:spPr>
          <a:xfrm>
            <a:off x="826920" y="3789360"/>
            <a:ext cx="7848720" cy="2303640"/>
          </a:xfrm>
          <a:prstGeom prst="rect">
            <a:avLst/>
          </a:prstGeom>
          <a:ln w="0">
            <a:noFill/>
          </a:ln>
        </p:spPr>
      </p:pic>
      <p:sp>
        <p:nvSpPr>
          <p:cNvPr id="143" name="对角圆角矩形 6"/>
          <p:cNvSpPr/>
          <p:nvPr/>
        </p:nvSpPr>
        <p:spPr>
          <a:xfrm>
            <a:off x="395280" y="1413000"/>
            <a:ext cx="8569440" cy="4752720"/>
          </a:xfrm>
          <a:custGeom>
            <a:avLst/>
            <a:gdLst/>
            <a:ahLst/>
            <a:rect l="l" t="t" r="r" b="b"/>
            <a:pathLst>
              <a:path w="8568952" h="4752528">
                <a:moveTo>
                  <a:pt x="792103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960424"/>
                </a:lnTo>
                <a:cubicBezTo>
                  <a:pt x="8568952" y="4397890"/>
                  <a:pt x="8214315" y="4752527"/>
                  <a:pt x="7776849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